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65A-7984-4C7F-B24E-1128A005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369-23AD-4A80-B0F5-97FD1C53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EAB-9437-40C5-8648-C8849384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40B-8A0B-4241-928C-084CDC00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60A-5FEB-49E6-A980-9BCE2F66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304-AA95-4A12-8D6D-E9748418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1EA-4924-4AFB-B8F6-A5D0A4ED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6B4-7D00-4564-95D2-1BE889B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34A-FDAC-4B1F-AF79-7CB52A9F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76A-C9F0-46E4-8C68-19F4DDB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DB6-50A9-4D55-8625-A4B9E5B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8E3-BA0F-450F-8CC6-B098CD27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02B-86BD-42FC-958A-D4E26CBDB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yellowpages.com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ere Should YOU Buy Your Next Bagel w/ Cream Cheese and Small Coffee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y: Kate Engelbert and Mario Ca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 fail to reject Ho because our p-value was greater than alpha, which equals .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 have sufficient evidence to believe that the mean price of a bagel and a small coffee in Bucks, Montgomery, and Philadelphia counties is equal to the mean price of a bagel and a small coffee in New York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74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onfidence Interv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x1-x2)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±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*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/n1 + s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/n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  (.00982, .530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e are 95% confident that the difference between the price of bagels in Bucks, Montgomery, and Philadelphia counties and in New York City falls between .01 and .53 c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133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Price of a Bagel and a Small Coff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5146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495680"/>
            <a:ext cx="0" cy="6098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800600"/>
            <a:ext cx="12193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4419720"/>
            <a:ext cx="0" cy="761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419720"/>
            <a:ext cx="1523880" cy="7617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800600"/>
            <a:ext cx="16765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495680"/>
            <a:ext cx="0" cy="6098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715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571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5715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715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715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429000"/>
            <a:ext cx="91440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048120"/>
            <a:ext cx="1676160" cy="76176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3048120"/>
            <a:ext cx="0" cy="76176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429000"/>
            <a:ext cx="129564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3124080"/>
            <a:ext cx="0" cy="60984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715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715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791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5715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715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60958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(doll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67652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cks, Mont., and Philadelph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York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1523880"/>
            <a:ext cx="266688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2895480"/>
            <a:ext cx="609480" cy="152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1752480"/>
            <a:ext cx="609480" cy="152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6464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w Let’s Interpret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om the box and whisker plot, it is obvious that the price of a bagel with cream cheese and a small coffee in our area is actually cheaper than in New York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is contrary to our prediction that the price would actually be greater in New York 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5e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Bias/Err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ome companies listed in the phone book no longer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mpanies may have rounded the price and/or 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Appl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information can be used when deciding where to purchase a bagel and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can also be used (to an extreme) to determine where one chooses to live based on the prices of everyday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Opinions/ Conclu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fter doing this project, it turned out that our predictions were wrong.  The price of a bagel and coffee is the same and even a little bit more expensive than that in New York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is was surprising to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verall this was a fun project and gave us an opportunity to explore the price of a bagel and coff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We had a difficult time understanding most of the people on the phone due to the fact that more than half did not speak English.  It was quite entert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eeeef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he Iss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ny prices of different things increase in large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amples of this include the prices of food at restaurants, bottled soda, bottled water, gu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 wanted to investigate if the same was true for a bagel and a cup of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New York C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90720" y="1752480"/>
          <a:ext cx="6629040" cy="4520880"/>
        </p:xfrm>
        <a:graphic>
          <a:graphicData uri="http://schemas.openxmlformats.org/drawingml/2006/table">
            <a:tbl>
              <a:tblPr/>
              <a:tblGrid>
                <a:gridCol w="1325880"/>
                <a:gridCol w="1325880"/>
                <a:gridCol w="1325520"/>
                <a:gridCol w="1325880"/>
                <a:gridCol w="13258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6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ucks, Montgomery and Philadelphia Coun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43000" y="1905120"/>
          <a:ext cx="7162560" cy="4673160"/>
        </p:xfrm>
        <a:graphic>
          <a:graphicData uri="http://schemas.openxmlformats.org/drawingml/2006/table">
            <a:tbl>
              <a:tblPr/>
              <a:tblGrid>
                <a:gridCol w="1432440"/>
                <a:gridCol w="1432800"/>
                <a:gridCol w="1432080"/>
                <a:gridCol w="1432800"/>
                <a:gridCol w="143244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a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Bucks, Montgomery, and Philadelphia Cou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2.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.5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=1.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=2.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=2.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3=3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=4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w York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2.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.4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=1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=2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n=2.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3=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=3.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Impact"/>
              </a:rPr>
              <a:t>Outlier Tes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Bucks, Mont, Philadelp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Q3 – 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0.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IQR X 1.5) = 0.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pp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3 + 0.93 = 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1 – 0.93 = 1.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New York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Q3 – 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QR = 0.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IQR X 1.5) =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pp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3 + 1.08 = 4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er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Q1 – 1.08 =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NO OUTLIER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wo Sample T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ssumptions: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Independent SRS      2 Independent S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Normal Population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1=N2=30&gt;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1 and N2 &gt;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05920" y="2209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05920" y="2666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4724280"/>
            <a:ext cx="82296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** Our SRS was obtained by going 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Unicode MS"/>
                <a:hlinkClick r:id="rId4"/>
              </a:rPr>
              <a:t>www.yellowpages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 and using a random number generator to give us 30 random bagel/coffee shops in Bucks, Montgomery, and Philadelphia counties as well as New York Cit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wo Sample T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: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= 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F = 57.1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a: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&lt;  </a:t>
            </a:r>
            <a:r>
              <a:rPr b="0" lang="en-US" sz="5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 =           x1 – x2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=      2.07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/n1 + s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/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 (t &lt; 2.0779) = .978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809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7:47:11Z</dcterms:created>
  <dc:creator>Mobile Lab 2</dc:creator>
  <dc:description/>
  <dc:language>en-US</dc:language>
  <cp:lastModifiedBy>Teacher</cp:lastModifiedBy>
  <dcterms:modified xsi:type="dcterms:W3CDTF">2007-01-19T17:39:39Z</dcterms:modified>
  <cp:revision>8</cp:revision>
  <dc:subject/>
  <dc:title>Comparing the Price of a Bagel with Cream Cheese and a Small Coffee in the Delaware Valley to New York City</dc:title>
</cp:coreProperties>
</file>